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0341-DD6E-4436-97F3-64AB94D6B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Cecilia Nov. 22; patron saint of musicians; sang as she was martyred</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CF2A-76AA-48EA-A4CD-2BF0DBFD2F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Columban; irish missionary to gaul; Nov. 23</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EA7B-7ADB-4C8E-AF35-93D65713EB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FBC9D-8655-4E27-BD36-095C5745B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EBF80-7DD0-48D5-AD78-4ABBA19F8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1BB12-7225-4FD5-B31D-A51EF61E2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CECB3-DEB5-42FB-B6A0-D87185C69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2B7EB-0371-48F1-803D-4E9EE4004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A9A32-61D0-4438-987C-B67AB34C8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E2A64-86B2-46FE-80C2-01688CCB7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DDD42-9CD6-4E1B-AEDE-15199C2B4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F30FD-0978-4D5D-920F-2C3AB6319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73DFD-F51D-45D5-A166-41E1B5EF6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6FF34-E1D1-4EEB-9DB2-754522CF8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DA312-CBC6-4072-936D-35B48E34B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B8A83-DB19-4E30-BD98-ECB76E69B8A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8/87/St_cecilia_guido_reni.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en/5/5f/San_Colombano_Bobbio.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0" name="Picture 2" descr="File:St cecilia guido reni.jpg">
            <a:hlinkClick r:id="rId1"/>
          </p:cNvPr>
          <p:cNvPicPr/>
          <p:nvPr/>
        </p:nvPicPr>
        <p:blipFill>
          <a:blip r:embed="rId2"/>
          <a:stretch/>
        </p:blipFill>
        <p:spPr>
          <a:xfrm>
            <a:off x="1676520" y="103320"/>
            <a:ext cx="5333760" cy="675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 name=""/>
          <p:cNvSpPr txBox="1"/>
          <p:nvPr/>
        </p:nvSpPr>
        <p:spPr>
          <a:xfrm>
            <a:off x="0" y="-360"/>
            <a:ext cx="8686800" cy="6126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erome, in </a:t>
            </a:r>
            <a:r>
              <a:rPr b="0" i="1" lang="en-US" sz="3200" spc="-1" strike="noStrike">
                <a:solidFill>
                  <a:srgbClr val="ffffff"/>
                </a:solidFill>
                <a:latin typeface="Calibri"/>
              </a:rPr>
              <a:t>On the Epistle  to the Ephesians</a:t>
            </a:r>
            <a:r>
              <a:rPr b="0" lang="en-US" sz="3200" spc="-1" strike="noStrike">
                <a:solidFill>
                  <a:srgbClr val="ffffff"/>
                </a:solidFill>
                <a:latin typeface="Calibri"/>
              </a:rPr>
              <a:t>, says: “It is written about Christ, that he was always with the Father, and that the paternal will never, as it were, preceded him”; “and he was son by nature, we by adoption.”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lary too, in Book III of </a:t>
            </a:r>
            <a:r>
              <a:rPr b="0" i="1" lang="en-US" sz="3200" spc="-1" strike="noStrike">
                <a:solidFill>
                  <a:srgbClr val="ffffff"/>
                </a:solidFill>
                <a:latin typeface="Calibri"/>
              </a:rPr>
              <a:t>On the Trinity</a:t>
            </a:r>
            <a:r>
              <a:rPr b="0" lang="en-US" sz="3200" spc="-1" strike="noStrike">
                <a:solidFill>
                  <a:srgbClr val="ffffff"/>
                </a:solidFill>
                <a:latin typeface="Calibri"/>
              </a:rPr>
              <a:t>, says: “. . . We are sons of God, but not like this Son. For he is true Son, in the strict sense, by origin, not by adoption.”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se statements make it evident that Christ is not a Son by the grace of adoption.</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
          <p:cNvSpPr txBox="1"/>
          <p:nvPr/>
        </p:nvSpPr>
        <p:spPr>
          <a:xfrm>
            <a:off x="0" y="0"/>
            <a:ext cx="8686800" cy="6858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erome, in </a:t>
            </a:r>
            <a:r>
              <a:rPr b="0" i="1" lang="en-US" sz="3200" spc="-1" strike="noStrike">
                <a:solidFill>
                  <a:srgbClr val="ffffff"/>
                </a:solidFill>
                <a:latin typeface="Calibri"/>
              </a:rPr>
              <a:t>On the Epistle  to the Ephesians</a:t>
            </a:r>
            <a:r>
              <a:rPr b="0" lang="en-US" sz="3200" spc="-1" strike="noStrike">
                <a:solidFill>
                  <a:srgbClr val="ffffff"/>
                </a:solidFill>
                <a:latin typeface="Calibri"/>
              </a:rPr>
              <a:t>, says: “It is written about Christ, that he was always with the Father, and that the paternal will never, as it were, preceded him”; “and he was son by nature, we by adoption.”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lary too, in Book III of </a:t>
            </a:r>
            <a:r>
              <a:rPr b="0" i="1" lang="en-US" sz="3200" spc="-1" strike="noStrike">
                <a:solidFill>
                  <a:srgbClr val="ffffff"/>
                </a:solidFill>
                <a:latin typeface="Calibri"/>
              </a:rPr>
              <a:t>On the Trinity</a:t>
            </a:r>
            <a:r>
              <a:rPr b="0" lang="en-US" sz="3200" spc="-1" strike="noStrike">
                <a:solidFill>
                  <a:srgbClr val="ffffff"/>
                </a:solidFill>
                <a:latin typeface="Calibri"/>
              </a:rPr>
              <a:t>, says: “. . . We are sons of God, but not like this Son. For he is true Son, in the strict sense, by origin, not by adoption.”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se statements make it evident that Christ is not a Son by the grace of adoption.</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eter Lombard, </a:t>
            </a:r>
            <a:r>
              <a:rPr b="0" i="1" lang="en-US" sz="3200" spc="-1" strike="noStrike">
                <a:solidFill>
                  <a:srgbClr val="ffffff"/>
                </a:solidFill>
                <a:latin typeface="Calibri"/>
              </a:rPr>
              <a:t>Sentences</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 name=""/>
          <p:cNvSpPr txBox="1"/>
          <p:nvPr/>
        </p:nvSpPr>
        <p:spPr>
          <a:xfrm>
            <a:off x="0" y="-360"/>
            <a:ext cx="8686800" cy="61261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 most pressing problem obtrudes itself at this point, as to what that redemption of ours through the death of Christ may be. . . . And so it seems that we must  first investigate why it was necessary for God to take human nature upon him so that he might redeem us by dying in the flesh; and from what person. . . he has redeemed us; and by what standard of justice he has liberated us.</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
          <p:cNvSpPr txBox="1"/>
          <p:nvPr/>
        </p:nvSpPr>
        <p:spPr>
          <a:xfrm>
            <a:off x="0" y="0"/>
            <a:ext cx="8686800" cy="68580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 most pressing problem obtrudes itself at this point, as to what that redemption of ours through the death of Christ may be. . . . And so it seems that we must  first investigate why it was necessary for God to take human nature upon him so that he might redeem us by dying in the flesh; and from what person. . . he has redeemed us; and by what standard of justice he has liberated us.</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belard, </a:t>
            </a:r>
            <a:r>
              <a:rPr b="0" i="1" lang="en-US" sz="3600" spc="-1" strike="noStrike">
                <a:solidFill>
                  <a:srgbClr val="ffffff"/>
                </a:solidFill>
                <a:latin typeface="Calibri"/>
              </a:rPr>
              <a:t>Exposition of the Epistle of the Romans</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 name=""/>
          <p:cNvSpPr txBox="1"/>
          <p:nvPr/>
        </p:nvSpPr>
        <p:spPr>
          <a:xfrm>
            <a:off x="457200" y="350640"/>
            <a:ext cx="8229600" cy="61261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blessed wound of our Saviour is open and rejoices to heal us; the sweet gracious hands of our Mother reach out ready and diligent. . . . His task is to save us, a duty he delights to fulfill.  And he would have us know it; for he wants us to love him sweetly and trust in him meekly and mightily.</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
          <p:cNvSpPr txBox="1"/>
          <p:nvPr/>
        </p:nvSpPr>
        <p:spPr>
          <a:xfrm>
            <a:off x="0" y="-360"/>
            <a:ext cx="8686800" cy="7162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e blessed wound of our Saviour is open and rejoices to heal us; the sweet gracious hands of our Mother reach out ready and diligent. . . . His task is to save us, a duty he delights to fulfill.  And he would have us know it; for he wants us to love him sweetly and trust in him meekly and mightily.</a:t>
            </a:r>
            <a:endParaRPr b="0" lang="en-US" sz="4000" spc="-1" strike="noStrike">
              <a:solidFill>
                <a:srgbClr val="ffffff"/>
              </a:solidFill>
              <a:latin typeface="Calibri"/>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Julian of Norwich, </a:t>
            </a:r>
            <a:r>
              <a:rPr b="0" i="1" lang="en-US" sz="4000" spc="-1" strike="noStrike">
                <a:solidFill>
                  <a:srgbClr val="ffffff"/>
                </a:solidFill>
                <a:latin typeface="Calibri"/>
              </a:rPr>
              <a:t>Revelation of Love</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 name=""/>
          <p:cNvSpPr txBox="1"/>
          <p:nvPr/>
        </p:nvSpPr>
        <p:spPr>
          <a:xfrm>
            <a:off x="0" y="-360"/>
            <a:ext cx="8686800" cy="6126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inity beyond all essence, beyond all divinity, beyond all goodness! .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t this be my prayer, leav[ing] behind the senses and the operations of the intellect, and all things in the world of being and nonbeing, that [I] might rise up unknowingly toward the union, as far as is attainable, with him who transcends all being and all knowledg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
          <p:cNvSpPr txBox="1"/>
          <p:nvPr/>
        </p:nvSpPr>
        <p:spPr>
          <a:xfrm>
            <a:off x="457200" y="228600"/>
            <a:ext cx="8229600" cy="58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inity beyond all essence, beyond all divinity, beyond all goodness! . . . . </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t this be my prayer, leav[ing] behind the senses and the operations of the intellect, and all things in the world of being and nonbeing, that [I] might rise up unknowingly toward the union, as far as is attainable, with him who transcends all being and all knowledge.</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onysius, </a:t>
            </a:r>
            <a:r>
              <a:rPr b="0" i="1" lang="en-US" sz="3200" spc="-1" strike="noStrike">
                <a:solidFill>
                  <a:srgbClr val="ffffff"/>
                </a:solidFill>
                <a:latin typeface="Calibri"/>
              </a:rPr>
              <a:t>The Mystical Theolog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 name=""/>
          <p:cNvSpPr txBox="1"/>
          <p:nvPr/>
        </p:nvSpPr>
        <p:spPr>
          <a:xfrm>
            <a:off x="457200" y="-360"/>
            <a:ext cx="8229600" cy="6126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Saint Cecilia, we know that you were a musician and we are told that you heard angels sing. Inspire musicians to gladden the hearts of people by filling the air with God's gift of music and reminding them of the Divine Musician Who created all beauty. Amen</a:t>
            </a:r>
            <a:r>
              <a:rPr b="0" lang="en-US" sz="3200" spc="-1" strike="noStrike">
                <a:solidFill>
                  <a:srgbClr val="ffffff"/>
                </a:solidFill>
                <a:latin typeface="Calibri"/>
              </a:rPr>
              <a: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
          <p:cNvSpPr txBox="1"/>
          <p:nvPr/>
        </p:nvSpPr>
        <p:spPr>
          <a:xfrm>
            <a:off x="457200" y="990360"/>
            <a:ext cx="8229600" cy="5135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loria Patri, et Filio, et Spiritui Sancto,</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cut erat in principio, et nunc, et sempe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t in saecula saeculorum. Ame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
          <p:cNvSpPr txBox="1"/>
          <p:nvPr/>
        </p:nvSpPr>
        <p:spPr>
          <a:xfrm>
            <a:off x="0" y="533160"/>
            <a:ext cx="9144000" cy="5592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s week you must win further help for your clu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Mistress of the Quest will not give it to you</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til you follow out the instructions she giv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help you find the answer to where your prize i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9" name="Picture 2" descr="File:San Colombano Bobbio.jpg">
            <a:hlinkClick r:id="rId1"/>
          </p:cNvPr>
          <p:cNvPicPr/>
          <p:nvPr/>
        </p:nvPicPr>
        <p:blipFill>
          <a:blip r:embed="rId2"/>
          <a:stretch/>
        </p:blipFill>
        <p:spPr>
          <a:xfrm>
            <a:off x="2743200" y="30240"/>
            <a:ext cx="3505320" cy="682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
          <p:cNvSpPr txBox="1"/>
          <p:nvPr/>
        </p:nvSpPr>
        <p:spPr>
          <a:xfrm>
            <a:off x="457200" y="-360"/>
            <a:ext cx="8229600" cy="6126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Grant, O Lord, that the light of your love may never be dimmed within us. Let it shine forth from our warmed hearts to comfort others in times of peace and in seasons of adversity, and in bright beams of your goodness and love may we come at last to the vision of your glory; through Christ our Lord.  Amen.</a:t>
            </a:r>
            <a:endParaRPr b="0" lang="en-US" sz="3600" spc="-1" strike="noStrike">
              <a:solidFill>
                <a:srgbClr val="ffffff"/>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 name=""/>
          <p:cNvSpPr txBox="1"/>
          <p:nvPr/>
        </p:nvSpPr>
        <p:spPr>
          <a:xfrm>
            <a:off x="304920" y="1798200"/>
            <a:ext cx="9144000" cy="57452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Lord Jesus Christ, Son of God.</a:t>
            </a:r>
            <a:endParaRPr b="0" lang="en-US" sz="5400" spc="-1" strike="noStrike">
              <a:solidFill>
                <a:srgbClr val="ffffff"/>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Have mercy on me, a sinner.</a:t>
            </a:r>
            <a:endParaRPr b="0" lang="en-US" sz="5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 name=""/>
          <p:cNvSpPr txBox="1"/>
          <p:nvPr/>
        </p:nvSpPr>
        <p:spPr>
          <a:xfrm>
            <a:off x="457200" y="304920"/>
            <a:ext cx="8229600" cy="582120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s a drop of water seems to disappear completely in a big quantity of wine, even assuming the wines taste and color; . . . so it is necessary for the saints that all human feelings melt in a mysterious way and flow into the will of God.</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 name=""/>
          <p:cNvSpPr txBox="1"/>
          <p:nvPr/>
        </p:nvSpPr>
        <p:spPr>
          <a:xfrm>
            <a:off x="457200" y="228600"/>
            <a:ext cx="8229600" cy="58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s a drop of water seems to disappear completely in a big quantity of wine, even assuming the wines taste and color; . . . so it is necessary for the saints that all human feelings melt in a mysterious way and flow into the will of God.</a:t>
            </a:r>
            <a:endParaRPr b="0" lang="en-US" sz="4000" spc="-1" strike="noStrike">
              <a:solidFill>
                <a:srgbClr val="ffffff"/>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Bernard of Clairvaux, </a:t>
            </a:r>
            <a:endParaRPr b="0" lang="en-US" sz="4000" spc="-1" strike="noStrike">
              <a:solidFill>
                <a:srgbClr val="ffffff"/>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t>
            </a:r>
            <a:r>
              <a:rPr b="0" lang="en-US" sz="4000" spc="-1" strike="noStrike">
                <a:solidFill>
                  <a:srgbClr val="ffffff"/>
                </a:solidFill>
                <a:latin typeface="Calibri"/>
              </a:rPr>
              <a:t>On Loving God”</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9T13:59:51Z</dcterms:created>
  <dc:creator>Liberty</dc:creator>
  <dc:description/>
  <dc:language>en-US</dc:language>
  <cp:lastModifiedBy>SPX User</cp:lastModifiedBy>
  <dcterms:modified xsi:type="dcterms:W3CDTF">2010-11-22T15:04:05Z</dcterms:modified>
  <cp:revision>9</cp:revision>
  <dc:subject/>
  <dc:title>PowerPoint Presentation</dc:title>
</cp:coreProperties>
</file>